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B80-5D18-4D7D-9325-29B897FB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1B8-43E2-41C3-8D0B-9FFD0104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657-CADA-4CF4-AAF8-4B277D49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AAD-5EF2-4526-84E1-68A9D14F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C5C-F099-485E-977C-1B1DCC3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C2A-7258-47DD-885A-8180427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CF4-C772-4C75-A724-7E66852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C44-58BD-4972-BBA7-8A23D59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C3A-3BB1-4AE4-A01F-56B7462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72D-BE17-4A89-AB4D-2B9536F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E89-C5CF-488F-8641-C20F485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4EC-385D-4DB0-8223-4EB7B04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C263-9A71-40C3-8792-E6AEC3AB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0:37:47Z</dcterms:created>
  <dc:creator>VictorP</dc:creator>
  <dc:description/>
  <dc:language>en-US</dc:language>
  <cp:lastModifiedBy>VictorP</cp:lastModifiedBy>
  <dcterms:modified xsi:type="dcterms:W3CDTF">2008-01-10T00:51:28Z</dcterms:modified>
  <cp:revision>2</cp:revision>
  <dc:subject/>
  <dc:title>Diapositiva 1</dc:title>
</cp:coreProperties>
</file>